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358-6F47-4A3F-8200-F1393303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D6B-D501-4C33-B978-4A8A3DBB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350-A7C0-493A-AC91-99CA9A2E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67D-2606-4B0E-A212-42531C85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A06-9574-4A0C-A87D-BFD0A25B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7AF-971F-44E8-9CA9-87E926AC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AFF-2D51-45A4-AF47-6A50D1DE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7F6-BCBB-4B6D-9900-B87A6E15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052-DBE4-4DC4-B133-016AA3D5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F94-309D-404B-8299-F40984C5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84A-5BD8-491C-B814-7313A39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819-B528-4FDB-906F-1D9C721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DEAD-CCE4-456B-AABA-53A7E928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Double_bitted_felling_axe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s.wikipedia.org/wiki/Archivo:Axt_Handwerk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history101.net/espanol/Rome/index.htm,March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ff">
              <a:alpha val="99000"/>
            </a:srgbClr>
          </a:solidFill>
          <a:ln cap="rnd" w="9360">
            <a:solidFill>
              <a:srgbClr val="99cc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quitectura y  Ingenieria  de Ro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ar y Gl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>
                  <a:alpha val="26274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TUNELES ROMAN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b3b">
                  <a:alpha val="14117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soldados Romanos construian tuneles para no tener que dar toda la vuelta a los camin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Túnel romano Montefurado. Quiroga."/>
          <p:cNvPicPr/>
          <p:nvPr/>
        </p:nvPicPr>
        <p:blipFill>
          <a:blip r:embed="rId1"/>
          <a:stretch/>
        </p:blipFill>
        <p:spPr>
          <a:xfrm>
            <a:off x="2666880" y="2819520"/>
            <a:ext cx="4343400" cy="2901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>
                  <a:alpha val="5215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Bañ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750075">
                  <a:alpha val="3215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pueblos mas grandes, los baños tenian areas disti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roman Bath"/>
          <p:cNvPicPr/>
          <p:nvPr/>
        </p:nvPicPr>
        <p:blipFill>
          <a:blip r:embed="rId1"/>
          <a:stretch/>
        </p:blipFill>
        <p:spPr>
          <a:xfrm>
            <a:off x="1981080" y="2801880"/>
            <a:ext cx="4800600" cy="3827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SAS ROMA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Romanos  construian sus propias 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562720" cy="3990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ERRAMIENTAS PARA TRABAJAR LA PIED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S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Comp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3.Talad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.Mart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5.Me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Escop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7.Escul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8.P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ERRAMIENTAS PARA TRABAJAR LA PIED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.Ha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2.Ha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3.Cu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.Barr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5.S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Sep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7.Tena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8.M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2133720"/>
            <a:ext cx="213372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4114800"/>
            <a:ext cx="293364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ymer,Eric.  ‘Romanos antiguos’ [Online] Availabl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history101.net/espanol/Rome/index.htm,M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,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p,Peter.The Romans,New York: Scholastic,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55000" y="41688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genieria Rom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s Romanos construian muchas cosas como las sig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ca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cami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bar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ino  Echo por  Ingeniero Roma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camino es por donde pasaban  los ro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eccion de la calzada"/>
          <p:cNvPicPr/>
          <p:nvPr/>
        </p:nvPicPr>
        <p:blipFill>
          <a:blip r:embed="rId1"/>
          <a:stretch/>
        </p:blipFill>
        <p:spPr>
          <a:xfrm>
            <a:off x="1447920" y="3505320"/>
            <a:ext cx="5715000" cy="196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cc">
              <a:alpha val="7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AS DE R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>
                  <a:alpha val="94117"/>
                </a:srgbClr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lo los ricos podian tener casas como la sigu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Foto"/>
          <p:cNvPicPr/>
          <p:nvPr/>
        </p:nvPicPr>
        <p:blipFill>
          <a:blip r:embed="rId1"/>
          <a:stretch/>
        </p:blipFill>
        <p:spPr>
          <a:xfrm>
            <a:off x="2514600" y="358128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6984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OCIEDAD ROM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7632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osiedad Romana se dividia en 3 grup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Los patrisi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Los equ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Los plebey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TRISI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00"/>
          </a:solidFill>
          <a:ln cap="rnd" w="57240">
            <a:solidFill>
              <a:srgbClr val="ff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n formadas por familias viegas y no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atricios y plebeyos"/>
          <p:cNvPicPr/>
          <p:nvPr/>
        </p:nvPicPr>
        <p:blipFill>
          <a:blip r:embed="rId1"/>
          <a:stretch/>
        </p:blipFill>
        <p:spPr>
          <a:xfrm>
            <a:off x="1371600" y="3352680"/>
            <a:ext cx="6553080" cy="310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EQUI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9ccff">
                  <a:alpha val="66274"/>
                </a:srgbClr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quites eran formados por los hombres mas caballeros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4628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ccff">
                  <a:alpha val="28235"/>
                </a:srgbClr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LEBEY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>
                  <a:alpha val="4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lebeyos eran la cran masa de la ciu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48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>
                  <a:alpha val="46274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ARQUITECTURA ROM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soldados hacian los caminos de pied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s soldados no les gustaba  hacer  los caminos de pied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soldados en sus  tiempos libres cortaban las piedras para los cami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28810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04:05Z</dcterms:created>
  <dc:creator>School District U46</dc:creator>
  <dc:description/>
  <dc:language>en-US</dc:language>
  <cp:lastModifiedBy>School District U46</cp:lastModifiedBy>
  <dcterms:modified xsi:type="dcterms:W3CDTF">2009-03-18T15:13:05Z</dcterms:modified>
  <cp:revision>27</cp:revision>
  <dc:subject/>
  <dc:title>Arquitectura y  Ingenieria  de Roma.</dc:title>
</cp:coreProperties>
</file>